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8E3-7157-496B-9BAC-18129D54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B11-333B-46DF-8723-FE5F8599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F07-54D4-4A45-BC83-CED8216D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2E3-CDD6-4AA9-9AF6-35707582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D081-D264-4829-8163-4133CE1F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E617-15FC-4667-9544-BB85004C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BE0E-6ECB-4473-ABF8-63FA9996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B7FC-3106-45FE-9542-D47C29B2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4378-555E-4424-98F9-D4C6B104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9532-64D7-4A45-BE43-EB072235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542C-5393-4272-A45A-782EA55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CDF-DDAE-40FE-9E35-65821D4F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B98E-DAE4-4FC4-A793-EF5D98D6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F39F-9B7A-40B2-A53F-91675D9A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FE5B-0D2C-4C09-AF59-05DF5A3C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2DE2-BB20-4CF9-A9BB-CC564DC0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C16B-0816-4DD1-92BC-489480C0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A9B-6F6B-4FE1-A398-592C1F82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B9D-FD8F-45F6-BB59-816951C4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496-8023-4F10-818A-4618EED9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122-6AC8-4D81-A2AF-AB242B5C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E41-095F-4E9B-9907-B2F16A93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DE6-33AF-4D2C-8F14-F761CDD7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FF7-7CD3-4887-9E9A-5122F79F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4252-2CEE-48E9-9B85-F8A1B62D67B4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B875-35E5-49DF-BBF3-40D4CAA41BCA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Windows Movie Maker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/6-12/Session 3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video effects and audio have enhanced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Why did you make these particular choices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observed how title sequences, video effects, and transitions can add to or subtract from the overall impact of a movie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import audio and add audio effects in </a:t>
            </a:r>
            <a:r>
              <a:rPr b="0" lang="en-US" sz="3200" spc="-1" strike="noStrike">
                <a:solidFill>
                  <a:srgbClr val="212164"/>
                </a:solidFill>
                <a:latin typeface="Lucida Grande"/>
              </a:rPr>
              <a:t>Windows Movie Mak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share our movies with other peopl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 we add video effects to our movie clip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udio, whether it is from a CD, or a computer recording has the ability to enhance dramatic moments in a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ce a movie is created there are many different methods of distributio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can be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played on a websit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ent via emai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ewed on a comput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urned on a DV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deo effects can be used to alter a clip. Effects can be used to alter the speed of the clip, add special effects to the clip, or turn a clip to black and whit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possible sources of digital audio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microphone (built into the computer or external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C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mporting audio into </a:t>
            </a: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Windows Movie Mak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effec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aving the movie in a format everyone can view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specific instru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    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Take the next 30 minutes to import still images. Add titles, video effects (if necessary) and transitions to your movies. After 30 minutes we will come back together and shar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Import digital pictures into Movie Maker and include two pictures in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Add video effects, titles, and transitions to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ave your Movie Maker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hare (export) your Movie Maker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11T18:39:28Z</dcterms:modified>
  <cp:revision>20</cp:revision>
  <dc:subject/>
  <dc:title>Workshop Title</dc:title>
</cp:coreProperties>
</file>